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D06B-3D08-4B86-9403-10002E60E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8868-E5B6-4ED9-A671-1FBD3B5D8ECA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9DC1-CD94-49E3-B31C-4F74CF5E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EE29-96A2-4AC7-A4EA-2B646668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A6F8-F1B9-40BA-B430-9514497E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9C0B-76F9-4980-844C-F7C04C64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C1E7-AD77-4D5B-8239-E3BB8EC8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EAAF-3665-4B6A-94C2-51D58778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C0DA-7EF4-4DEC-AD00-E6AF99B2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01CF-A5D1-4D7B-9A8C-EB16265D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EE4C-C2A7-44DF-8EFA-A356C1D7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0AF6-8917-4795-980A-18478F32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80B0-C0C4-4F48-BA15-D3F3329B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86D0-5202-47AF-800E-DF8BD0D9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798C-B80B-43AE-B1D8-12E3D3AC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D175-D6EF-46BF-BD92-2EFA8BD7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268C-A3CF-47FD-91E3-93CD1339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5FF3-7C7F-42F4-B3FB-E1E67D96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FF8A-F135-451E-8EFB-47D0CBA9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89D1-56AC-4240-815A-0C848EC2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C566-BFBB-4A1A-9414-83E7D312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A27E-2A80-4065-AE5B-196A1292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FA96-C3FC-44AE-9391-6BCBDB9B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5916-F834-4FF4-97F7-9896535D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D6BF-5B38-4694-8182-5E2E390F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076C-C976-4A6C-9ED9-AB43525C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4413-42CC-43E2-AB3C-0946F5DEC0D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E1D3-5C4A-4B24-8B10-08B97C42F4D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1327-18F9-4341-A36F-37A69F60D299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1DA7-6E89-4467-BADC-C6F34D515EB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E52C-A8DD-4824-ACAE-988FB19E5655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BB07-9B53-445B-8B28-88E4C8B0BB7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ealth Issues for Children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in Foster Ca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3492000"/>
            <a:ext cx="6502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braham Rice, M.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ster Care Clinic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dical Directo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tra Costa Regional Medical Cen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b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y foster children are at ris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fancy and early childhoo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re critical periods during which the foundations for trust,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lf-esteem, conscience, empathy, problem solving, focused learning,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impulse control are laid dow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5F4F-0D12-4C72-83E8-2D00E823A2D0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AE87-A62F-4797-A147-B18BE10F9B2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4D55-D657-422A-B365-6FA9368A9881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4015-11A1-4BAB-A69C-FBF316307CC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ong Term Effects Adverse Childhood Eve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ildren living in a home with domestic violence are more likely 50 years later to have stroke, myocardial infarction, suicide attempt, substance abuse problems and be incarcerated, COPD, heart diseas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Adverse Childhood Events (ACE) Study, Kaiser Permanente/CDC/USDHHS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oster Care Children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ARE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ildren with special health care nee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nd should have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ccess to a medical home designed to meet those nee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78B9-D884-4DC0-A691-EAF974AC3F55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3CE6-2B7B-458F-9D2E-9B48BE62805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722160"/>
            <a:ext cx="863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provider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AP recommendation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Fostering Health:</a:t>
            </a:r>
            <a:r>
              <a:rPr b="0" i="1" lang="en-US" sz="28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Health Care for Children in Foster Car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 second edition, 2005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4664-21E4-4049-93BA-5EB9EBECCFB5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7165-579D-4E82-BCE9-4D76A588714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provider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inimize the trauma of placement separation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mprove the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ild’s health and development during the period of foster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dvocate for child with child welfare agencies, foster families, birth families, schools, and courts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94E3-1345-4EA2-9B56-831383827FFD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4218-9516-4C2B-A202-63961248587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provider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ill require extended time and frequent follow up visi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vide care with minimal inform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dentify physical, emotional, behavioral, psychosocial and developmental proble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5B45-464D-492F-B1F9-F10139F7598E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BE8D-B103-4697-8B1C-6E7D915C55E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provider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ssist social worker and parents additional forms of evaluations, care and community services the child requi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Advocate for child’s best interes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ith worker, foster parent, courts, schoo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CF1F-9C64-4A7C-9C22-6C62207C36F8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A721-3CAF-4C90-B154-5431339736B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vide access to a medical home, defined as care that i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cessible, comprehensive, continuous, coordinated, compassionate and family center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4340-5AB9-4B5D-A762-7121819FB178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0831-B27B-4EFA-ACA5-717D887A7CD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ealth Care Compone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itial health screen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rehensive health assess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velopmental and mental health evalua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imary care / health care maintena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FB9F-C588-49B2-A6A4-A01CEB1901E0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D4CF-7958-4FB2-81D2-53B1AFA1BDD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falls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240" y="19810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ID as foster chil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Kinship foster child is a foster chil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collect adequate inform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cial worker / foster family / bio fami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dical histor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give adequate ti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AFE3-8384-4F76-86F8-3E2C83F90B18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4152-5544-44D8-98C9-C91D52601892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ake Home Messages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eing in Foster Care has profound consequences on childre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Especially younger childre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ildren in Foster Care are children with special health care needs and need access to a medical ho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0B09-7E33-4418-AF05-043EFB084EED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D8FC-F5DC-48A4-B242-B6E1C8E163B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falls (cont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ask why child remov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assess how is doing in new ho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screen adequately for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v delays / abuse / chronic illness / behavioral and emotional problem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municate concer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 foster parent AND worker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B756-6641-4FA8-B877-D2857BC3B0D7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FE31-1308-4539-BC38-97698CE28F42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falls (cont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schedule adequate follow up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make appropriate delay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follow up on concern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eight, poor match between home and chil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C4C3-D5CB-42A6-A07E-BC61DA32AE0A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3969-170C-4287-80C2-65BDE65C55A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itial health screen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dentify any immediate medical, urgent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ntal health, or dental need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lth conditions of which the foster parents and caseworker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hould be awa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dica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rect communication with foster parents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ovid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2FE9-DA65-4C2B-B7E4-4A4A9154FE8A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F903-A793-4FFD-99A8-3B97693DD012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itial health screen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ight / Weight / Head Circumfere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d to toe exam, including genital exam and workup as appropriate for concerns of abuse or other concer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89F3-AB27-4B8D-828E-9844862ED127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D8D7-890E-4AB3-986F-BB58AD6AB2F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cc00"/>
                </a:solidFill>
                <a:latin typeface="Arial"/>
              </a:rPr>
              <a:t>Comprehensive Health Assessment</a:t>
            </a:r>
            <a:endParaRPr b="0" lang="en-US" sz="41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seworker and foster parents pres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lth Education Passport (HEP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tain information from birth parents and keep involved whenever possib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95BB-5BF4-449B-9E39-09CE2EA6BBFD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EC2F-1D68-4A1D-B201-18337F215BF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cc00"/>
                </a:solidFill>
                <a:latin typeface="Arial"/>
              </a:rPr>
              <a:t>Comprehensive Health Assessment</a:t>
            </a:r>
            <a:endParaRPr b="0" lang="en-US" sz="41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historical review should include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circumstances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at led to placement the child’s adjustment to separation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om the birth fami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daptation to the foster home developmental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r school progre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gency’s plans for permanenc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6807-C0A5-4723-84AF-5F5159E50078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547E-239B-4A32-96C4-E01E399516F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cc00"/>
                </a:solidFill>
                <a:latin typeface="Arial"/>
              </a:rPr>
              <a:t>Comprehensive Health Assessment</a:t>
            </a:r>
            <a:endParaRPr b="0" lang="en-US" sz="41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mmuniza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ntal evalu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clude scheduling follow up visi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454A-EB00-4B76-A4F3-A232EAD49568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7AA9-06B6-43EC-8FD7-E9933C3E75C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velopment &amp; mental healt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8288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terview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ster parent, casework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andardized tes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view of educational evalua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E034-4805-4721-9166-C5927782CC7A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EC5C-6F59-4E7C-B6EB-C7473EDEA82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velopmental and Education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ocal consultants and community-based intervention progra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upplemental Nutrition Program for Women,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fants, and Children [WIC] and Head Start, Regional center,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pecial education (IEP), early intervention, CCS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35E2-1297-4E77-8495-FA20E879EC22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142E-77ED-45AB-AAB2-70BDE53C0EF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bspecialty support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ntal heal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rapy, psychiatr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ild Development Clinic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gional Cen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urology / Neurosurge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8B49-FE33-4B55-B507-1E5EA2A3F180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9F12-ECCA-480D-9F7D-F4FE1E5B21C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oster children at risk fo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hysical proble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motional and behavioral proble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velopmenta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lay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cademic proble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4DAF-6DB0-4CFD-B106-B3F558A7824E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E3FD-9082-4337-937D-7264DE17955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l treatment recommendations and plans should be part of court approved social services pla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ltimately is the agency / social worker’s responsibility to see the implementation of medical care pla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B226-3806-431B-9786-F402A2FAC26C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7633-9DC8-424C-88CB-1FBF3506553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imary care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hould assess physical and emotional health and developmental status of child at every visi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 risk for emotional problems / abu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specially at times of transi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ccess to medical ho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F48E-5282-4E61-A292-350D2ACA066D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1DE1-6EAD-4BC0-B59F-BF45EEC226C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ngoing ca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requent routine evalua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nthly until 6 months of 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ry 2 months until 1 year of 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ry 3 months until 2 years of 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ry 6 months after 2 years of 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t times of transi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tinuity of medical car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40F7-9825-4C90-A192-125D40163350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699A-6C3A-4A26-B9AF-5E1F581219F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minde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Advocate for child’s best interes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ith worker, foster parent, courts, schoo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00F5-FE19-4B87-BF38-7137E5B266C7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699A-F93D-4B86-BC5C-AE30CE828D4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195E-B3D7-4810-A4F5-B545AA509DF3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8B09-CC67-43F3-B3B7-0D310EDE5497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2417760" y="1941480"/>
            <a:ext cx="402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23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A165-67C0-4697-B0CB-E71E2504D69F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9541-4017-4C77-A1CA-964AEA14E63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23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B349-3C70-4CB7-A0F5-B3F3EE602DAE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65CE-98A2-4C55-B62B-84AADD7F48A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24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555F-67EE-4AA0-8E3D-A9EEB31B0F6F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09D6-6170-4B41-812B-C49CAA07D9C2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22160"/>
            <a:ext cx="863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hysical problems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hysical and sexual abu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sthm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dach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astrointestinal proble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1A2F-912F-4852-8F67-3EF860F90263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8882-0147-425C-B83E-E90581FA131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motional / behavioral problems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itnessing domestic viole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esent based on developmental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TS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DH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ggressive / withdraw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pression / anxiet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duct disorders / truanc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7157-6FE1-4712-BFD9-BFDBE1E7A2DD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928E-6744-48EA-86F9-E72D654FE972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velopmental delay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cial / emotional delay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nguage delay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ne motor / gross mot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1820-81D1-4753-83D2-2B0677E6059B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CBA7-A9F4-4559-9D24-A1B9CB6AB0A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22160"/>
            <a:ext cx="863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ttachment system theory of develop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rmal development is absolutely dependent on a bond with a loving caregiv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ffect regulation may be the most essential aspect of a child’s develop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92C9-A09E-4328-A7FC-E0AA8B54AFE2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AF28-A13A-45EE-BDF6-AA191C0857E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(but wait, there's mor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, foster children at much greater risk for serious adverse health outcom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orse still……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601B-0683-49A8-A6BA-6CBA504C0104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6B94-2202-499F-BA0B-CEED5C0588F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ccess to poor health ca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sufficient fund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ck of acce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longed waits for medica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mental health servi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ck of coordination of servi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0E7F-9F81-44CC-93ED-92D0C9E06762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4512-BFE6-4F8A-8D39-9ED0027C035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be</dc:creator>
  <dc:description/>
  <dc:language>en-US</dc:language>
  <cp:lastModifiedBy>Abe</cp:lastModifiedBy>
  <dcterms:modified xsi:type="dcterms:W3CDTF">2009-04-15T14:38:04Z</dcterms:modified>
  <cp:revision>41</cp:revision>
  <dc:subject/>
  <dc:title>PowerPoint Presentation</dc:title>
</cp:coreProperties>
</file>